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016-DCE7-496F-871C-58EC455C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5366-5E86-48C8-BED3-ABA840C4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046-FA47-45C0-A19E-AAB75906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2445-1FDD-4B93-8848-C8B2671B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E84-02BC-4B77-8003-BB0D2BE3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6C7-9C05-4CA9-8D01-54046DBB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3DE5-72D8-4D6A-814F-F48BFE1D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BBE-C730-4E53-8D3B-15D6B0BF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F6F-D70A-440B-8A1D-03DD9161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6883-D546-4D69-A390-2C0DA100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F96-E2FF-4323-A159-9A92C880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CFE6-8548-4AEB-9ECD-7BF366B8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762F-7F6F-4763-80F2-F27E63354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520" y="1445760"/>
            <a:ext cx="3008520" cy="4691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ibou are mammals that live in the northern regions of Europe, North America, Asia, and Greenl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C:\Users\dwilliams2\AppData\Local\Microsoft\Windows\Temporary Internet Files\Content.IE5\TDML042D\MC900229079[1].wmf"/>
          <p:cNvPicPr/>
          <p:nvPr/>
        </p:nvPicPr>
        <p:blipFill>
          <a:blip r:embed="rId1"/>
          <a:stretch/>
        </p:blipFill>
        <p:spPr>
          <a:xfrm>
            <a:off x="3522600" y="1676520"/>
            <a:ext cx="5035680" cy="4451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:\Users\dwilliams2\AppData\Local\Microsoft\Windows\Temporary Internet Files\Content.IE5\CS9S25VO\MC900412438[1].wmf"/>
          <p:cNvPicPr/>
          <p:nvPr/>
        </p:nvPicPr>
        <p:blipFill>
          <a:blip r:embed="rId2"/>
          <a:stretch/>
        </p:blipFill>
        <p:spPr>
          <a:xfrm>
            <a:off x="7738920" y="4129200"/>
            <a:ext cx="1859040" cy="1546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dwilliams2\AppData\Local\Microsoft\Windows\Temporary Internet Files\Content.IE5\7KA03RCJ\MC900439781[1].png"/>
          <p:cNvPicPr/>
          <p:nvPr/>
        </p:nvPicPr>
        <p:blipFill>
          <a:blip r:embed="rId3"/>
          <a:stretch/>
        </p:blipFill>
        <p:spPr>
          <a:xfrm>
            <a:off x="7620120" y="25858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:\Users\dwilliams2\AppData\Local\Microsoft\Windows\Temporary Internet Files\Content.IE5\TDML042D\MC900436198[2].png"/>
          <p:cNvPicPr/>
          <p:nvPr/>
        </p:nvPicPr>
        <p:blipFill>
          <a:blip r:embed="rId4"/>
          <a:stretch/>
        </p:blipFill>
        <p:spPr>
          <a:xfrm>
            <a:off x="7958160" y="3657600"/>
            <a:ext cx="1317600" cy="1244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:\Users\dwilliams2\AppData\Local\Microsoft\Windows\Temporary Internet Files\Content.IE5\CS9S25VO\MC900331629[1].wmf"/>
          <p:cNvPicPr/>
          <p:nvPr/>
        </p:nvPicPr>
        <p:blipFill>
          <a:blip r:embed="rId5"/>
          <a:stretch/>
        </p:blipFill>
        <p:spPr>
          <a:xfrm>
            <a:off x="6419880" y="2197080"/>
            <a:ext cx="1581120" cy="669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Users\dwilliams2\AppData\Local\Microsoft\Windows\Temporary Internet Files\Content.IE5\CS9S25VO\MC900413582[1].wmf"/>
          <p:cNvPicPr/>
          <p:nvPr/>
        </p:nvPicPr>
        <p:blipFill>
          <a:blip r:embed="rId6"/>
          <a:stretch/>
        </p:blipFill>
        <p:spPr>
          <a:xfrm>
            <a:off x="7797960" y="112680"/>
            <a:ext cx="1346040" cy="1349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:\Users\dwilliams2\AppData\Local\Microsoft\Windows\Temporary Internet Files\Content.IE5\CS9S25VO\MC900436272[1].png"/>
          <p:cNvPicPr/>
          <p:nvPr/>
        </p:nvPicPr>
        <p:blipFill>
          <a:blip r:embed="rId7"/>
          <a:stretch/>
        </p:blipFill>
        <p:spPr>
          <a:xfrm>
            <a:off x="7797960" y="787320"/>
            <a:ext cx="1527120" cy="1527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C:\Users\dwilliams2\AppData\Local\Microsoft\Windows\Temporary Internet Files\Content.IE5\D2AYSA0H\MC900353836[1].wmf"/>
          <p:cNvPicPr/>
          <p:nvPr/>
        </p:nvPicPr>
        <p:blipFill>
          <a:blip r:embed="rId8"/>
          <a:stretch/>
        </p:blipFill>
        <p:spPr>
          <a:xfrm>
            <a:off x="7837560" y="2108160"/>
            <a:ext cx="971640" cy="846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0" y="203040"/>
            <a:ext cx="88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rtic Animals------- Carib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2" descr="C:\Program Files (x86)\Microsoft Office\MEDIA\CAGCAT10\j0183290.wmf"/>
          <p:cNvPicPr/>
          <p:nvPr/>
        </p:nvPicPr>
        <p:blipFill>
          <a:blip r:embed="rId9"/>
          <a:stretch/>
        </p:blipFill>
        <p:spPr>
          <a:xfrm>
            <a:off x="5867280" y="682560"/>
            <a:ext cx="1454400" cy="155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C:\Users\dwilliams2\AppData\Local\Microsoft\Windows\Temporary Internet Files\Content.IE5\D2AYSA0H\MC900304879[1].wmf"/>
          <p:cNvPicPr/>
          <p:nvPr/>
        </p:nvPicPr>
        <p:blipFill>
          <a:blip r:embed="rId10"/>
          <a:stretch/>
        </p:blipFill>
        <p:spPr>
          <a:xfrm>
            <a:off x="4956120" y="708120"/>
            <a:ext cx="18226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16:49:24Z</dcterms:created>
  <dc:creator>dell</dc:creator>
  <dc:description/>
  <dc:language>en-US</dc:language>
  <cp:lastModifiedBy>dell</cp:lastModifiedBy>
  <dcterms:modified xsi:type="dcterms:W3CDTF">2013-12-09T17:21:54Z</dcterms:modified>
  <cp:revision>3</cp:revision>
  <dc:subject/>
  <dc:title>Arctic Animal--Caribou</dc:title>
</cp:coreProperties>
</file>